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9A1-B85D-44D6-A374-EF57ED36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F76-1AC4-4658-9D45-C87F55D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1A8-17E0-4E8F-8F03-ADB288DA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92E-7AB9-4DC1-BAED-32DA214A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0411-194E-43CD-8B09-38B8DEEC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77D-DDA5-4FCD-A19D-9CD579B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262-29C9-4DC8-83D9-156896A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F964-E666-4F1A-95FA-75CDD98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8FF1-A988-490B-A872-62CF0799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93AF-C39C-4708-868B-E106D709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FB41-348B-4F79-A3EA-BBAF65E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55D-A03C-40DF-A284-517A7CF8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95F-0927-4FAB-9584-EAB5C7B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5F2-5D05-4513-885C-B2B5D18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37A4-EA80-4FCF-907E-6231C4E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7850-6AD9-442F-B903-421BE018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55FC-D320-47ED-AEE8-AB170070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B02-D1F8-4D1A-BAE8-3E3B8D5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479-A83D-410A-A70A-3E09891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E8B-9151-4102-AA16-F4513A4F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AC4-4B08-4B27-9677-1D33C35E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FAD-521C-4FD4-8844-132EBE0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E6A-E98C-4400-B3BA-EDFEF35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C20-6630-463F-A1AF-5C8BCD5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165-4C9A-4EAE-89B6-4404820B1CA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BF13-50DE-4E50-BFEE-9B6A0C16573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250920" y="3068640"/>
            <a:ext cx="917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e1f08"/>
                </a:solidFill>
                <a:latin typeface="宋体"/>
              </a:rPr>
              <a:t>基础部“第二届寝室文化节”获奖名单及作品</a:t>
            </a:r>
            <a:endParaRPr b="1" lang="en-US" sz="4000" spc="1" strike="noStrike">
              <a:ln w="19080">
                <a:solidFill>
                  <a:srgbClr val="00ffff"/>
                </a:solidFill>
                <a:miter/>
              </a:ln>
              <a:solidFill>
                <a:srgbClr val="fe1f08"/>
              </a:solidFill>
              <a:latin typeface="宋体"/>
              <a:ea typeface="宋体"/>
            </a:endParaRPr>
          </a:p>
        </p:txBody>
      </p:sp>
    </p:spTree>
  </p:cSld>
  <p:transition spd="med" advTm="5000"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731520" cy="7245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411280" y="3933720"/>
            <a:ext cx="3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556000" y="907920"/>
            <a:ext cx="40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寝室文化节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03280" y="3068640"/>
            <a:ext cx="561672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我型我秀”获奖作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 spd="med" advTm="5000">
    <p:random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我寝我秀” 获奖寝室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一等奖：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420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二等奖：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9124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310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三等奖：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9128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3101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4206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5000">
    <p:random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 Black"/>
              </a:rPr>
              <a:t>获奖寝室风采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2556000" y="404640"/>
            <a:ext cx="40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寝室文化节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1" name=""/>
          <p:cNvSpPr/>
          <p:nvPr/>
        </p:nvSpPr>
        <p:spPr>
          <a:xfrm>
            <a:off x="3965400" y="2925720"/>
            <a:ext cx="45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47640" y="2708280"/>
            <a:ext cx="561672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我型我秀”作品展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</p:spTree>
  </p:cSld>
  <p:transition spd="med" advTm="5000"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652320" y="-623880"/>
            <a:ext cx="10448640" cy="8105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33:21Z</dcterms:created>
  <dc:creator>微软用户</dc:creator>
  <dc:description/>
  <dc:language>en-US</dc:language>
  <cp:lastModifiedBy>微软用户</cp:lastModifiedBy>
  <dcterms:modified xsi:type="dcterms:W3CDTF">2011-06-10T05:23:01Z</dcterms:modified>
  <cp:revision>19</cp:revision>
  <dc:subject/>
  <dc:title>幻灯片 1</dc:title>
</cp:coreProperties>
</file>