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440-3203-4AEF-90D3-1E4FAB58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CF5-6A61-4D06-9C46-8D96A48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8AC-4170-431B-9982-7D97663C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E3D-FAA3-4F55-8EE7-742378A7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B6E-F4E3-4248-A728-B8A6F7D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C30-9876-4E43-9B19-1F9204AC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52D-24E4-4408-AE76-D6F5F21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445-7C38-4FAA-81D6-E75B2AEF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7DB-4310-435C-9329-DF922CD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B83-BCD0-4234-8A24-376BCDA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247-9D78-4740-8A44-03A9E4A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2ED-AAA5-44B2-84FF-95E646A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87DD-A1DC-498E-B505-2DEA3A9B4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3600" y="2367000"/>
            <a:ext cx="566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滁州职业技术学院教职工基础信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采集工作协调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9972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决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拷贝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文件到 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:\Windows\System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目录，若已经存在同名文件，则替换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将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中共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“开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”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gsvr32.exe C:\Windows\System32\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，然后回车执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重新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上操作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28840" y="1000080"/>
            <a:ext cx="5640120" cy="31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3305160" cy="16668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5214960" y="1571760"/>
            <a:ext cx="2238480" cy="1028520"/>
          </a:xfrm>
          <a:prstGeom prst="wedgeRectCallout">
            <a:avLst>
              <a:gd name="adj1" fmla="val -101689"/>
              <a:gd name="adj2" fmla="val 30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拷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SCOMCTL.OCX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文件到此目录，若已经存在同名文件，则替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928960" y="2428920"/>
            <a:ext cx="9288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500280" y="4143240"/>
            <a:ext cx="3857760" cy="857520"/>
          </a:xfrm>
          <a:prstGeom prst="wedgeRectCallout">
            <a:avLst>
              <a:gd name="adj1" fmla="val -48296"/>
              <a:gd name="adj2" fmla="val 85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运行如下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svr32.exe C:\Windows\System32\MSCOMCTL.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2428920" y="5357880"/>
            <a:ext cx="2903400" cy="414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61440" y="340200"/>
            <a:ext cx="512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系统下选择“以管理员身份运行”，打开“管理员：命令提示符”。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172040" cy="529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9560" y="2781360"/>
            <a:ext cx="4924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56800" y="99972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宏病毒解决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病毒较多，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常见。传播很快，打开携带宏病毒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后会被感染，病毒会通过拷贝、传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向外扩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、消灭宏病毒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中的宏，不会被当做病毒，但一旦采集模板文件感染病毒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杀毒时，会把宏病毒及模板中的宏全部删除，造成数据校验功能失效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议杀毒消灭宏病毒后，重新下载新模板，并把已填写的数据拷贝到新下载的模板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4760" y="241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6320" y="906840"/>
            <a:ext cx="421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填报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共享中下载采集模板，不要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打开后如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424720" cy="24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87240" y="4948920"/>
            <a:ext cx="68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模板有一条示例数据，填写前先删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7628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的输入形式分为：手工输入框、下拉选择框（单选）、弹出选择框。其中，弹出选择框分为复选框和树形选择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手工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日期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D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年月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“月平均工资”必须输入数字，且可保留一位小数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7396200" cy="1928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87640" y="2276640"/>
            <a:ext cx="3629160" cy="149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371628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下拉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拉选择框中的选项若有具体子项，须选择具体子项，不可选择父项，如“最高学位”中“博士”下还包含了“哲学博士学位”等项目，则不可选择“博士”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14308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659640" y="2349360"/>
            <a:ext cx="2133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67320" cy="19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3782880" cy="295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5400" y="5493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弹出选择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881080" cy="48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4608360" cy="459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26680" y="549360"/>
            <a:ext cx="52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若学校教师数量较多可分表录入，最终上报时再合并上报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合并时，粘贴数据至目标文件时需选择“选择性粘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在选择性粘贴窗口中选择“数值”格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47628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数据完成后，点击模板上的“开始检查”按钮对数据进行校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数据中存在错误则弹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176720" cy="1946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63720" y="3572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此同时，在模板下方也会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760" y="2851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确定按钮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68280" y="40392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错误信息工作表（错误信息工作表不能删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8680" y="479664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错误信息工作表中的提示修改错误信息，直到检查提示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1943280" cy="123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9770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使用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使用环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8 IE10 IE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浏览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位）操作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ice excel 200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要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或其他版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9640" y="1773000"/>
            <a:ext cx="7572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启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宏默认处于禁用状态，开启宏的方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【工具】菜单，点击【选项】后显示如下，依次选择图中红色圆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11280" y="1071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采集模板宏开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69642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Oval 3"/>
          <p:cNvSpPr/>
          <p:nvPr/>
        </p:nvSpPr>
        <p:spPr>
          <a:xfrm>
            <a:off x="6786720" y="1785960"/>
            <a:ext cx="780840" cy="314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215040" y="4429080"/>
            <a:ext cx="1357200" cy="48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4748400" cy="42861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2104920" y="3200400"/>
            <a:ext cx="1324080" cy="728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4429080" y="5214960"/>
            <a:ext cx="1285920" cy="5713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643800" y="2500200"/>
            <a:ext cx="1761840" cy="752760"/>
          </a:xfrm>
          <a:prstGeom prst="wedgeRectCallout">
            <a:avLst>
              <a:gd name="adj1" fmla="val -115657"/>
              <a:gd name="adj2" fmla="val 598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选择【低】后， 选择【确定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907560"/>
            <a:ext cx="8001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项】，点击【信任中心】，选择【信任中心设置】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571760" y="2708280"/>
            <a:ext cx="5879880" cy="3768840"/>
          </a:xfrm>
          <a:prstGeom prst="rect">
            <a:avLst/>
          </a:prstGeom>
          <a:ln w="0">
            <a:noFill/>
          </a:ln>
        </p:spPr>
      </p:pic>
      <p:sp>
        <p:nvSpPr>
          <p:cNvPr id="55" name="Oval 4"/>
          <p:cNvSpPr/>
          <p:nvPr/>
        </p:nvSpPr>
        <p:spPr>
          <a:xfrm>
            <a:off x="1643040" y="4314960"/>
            <a:ext cx="665280" cy="266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338880" y="5373720"/>
            <a:ext cx="969840" cy="333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114300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【信任中心】设置画面，选择【宏设置】，在画面右侧，选择【启用所有宏】，点击【确认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801504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571680" y="3929040"/>
            <a:ext cx="71424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2143080" y="4214880"/>
            <a:ext cx="321480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715080" y="5572080"/>
            <a:ext cx="7812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000" y="476280"/>
            <a:ext cx="80643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C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集模板报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装补丁或其他原因，可能存在无法加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或运行时，出现以下画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643280" cy="242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5960" y="4507560"/>
            <a:ext cx="675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打开模板时报错：无法装载这个对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它不适用于这台计算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运行时错误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4’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编译错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不到工程或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隐含模块中的编译错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XXXXX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如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mXueK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0:59:25Z</dcterms:created>
  <dc:creator>User</dc:creator>
  <dc:description/>
  <dc:language>en-US</dc:language>
  <cp:lastModifiedBy>User</cp:lastModifiedBy>
  <dcterms:modified xsi:type="dcterms:W3CDTF">2013-10-18T00:35:10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